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4F13-4231-46B9-B277-693D2563B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86DE-D448-43BE-AB39-D8DE911C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D736-A1D3-4193-9FA0-1DED28E8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135B-3D80-42A1-A260-4A1F38DD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0B9D-64B1-4072-9520-18FB6747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CE6A-29FB-4EFF-8E15-8A29CF7C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7312-9AED-4BBA-AD0A-96918F07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81FF-2C90-4DC6-95A3-F687AA97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7853-C070-4B70-AFD7-1093EB06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4908-79AC-463A-9ABE-4710106A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86C1-97D1-4597-B857-BACD120D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124A-2763-4436-973E-3D777589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DC40-82E3-4C4C-A98A-2A9E3D64D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549000"/>
            <a:ext cx="755820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а фармацеута у припреми и примени цитостатске терапије. Набавка, транспорт, припрема и примена цитостатика. Поступак при просипању цитостатика на радну површину или под. Мере индивидуалне заштите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бедно отклањање цитостатских препарата по истеку рок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упак са испражњеним бочицама и бризгалицама из којих је примењен цитостатик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1 Увод у фармацеутску прак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нице радиоактив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активност се мери Бекерелима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querels (Bq)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ди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q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 распад /секун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адиофармацији вредности се мери мега- и гига- Бекерелима.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 =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ад 1 г радијума/ секунди , није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диниц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1 Bq = 2,7 x 10-11 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1 Ci = 37 GB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Време полуживота = време за које се иницијална радиоактивност смањи на п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 идеалног радиофармацеу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зрачења: Чист негатронски емитер: емитује негативно наелектрисане честице – омогућен је велики линеарни пренос енергије, а смањује се дозу зрачења за околна здрава тки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 идеалног радиофармацеу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а (зрачење) честица: идеално је уколико су честице средње или велике енергије (веће од 1 максималне бета енергиј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живот честица: идеално када је у данима, лака контрола дозиме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 идеалног радиофармацеу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 однос циљни орган/нециљни орган – обезбеђује селективно зрачење, а мање оштећење здравог тки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ост – приступачност омогућава употребу у многим установа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ално зрачење особљ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зрачењ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фармацеутици користе три основна типа зрач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исије алфа честица, емисије бета честица и Аугер и Костер Корингова емисија електр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ма зрачење има значај у дијагности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 радиофармацеу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с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цином штитасте железде – 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31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тироидизам  - 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31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ње бола код метастаза на костима, услед постојања карцинома дојке и простате – </a:t>
            </a:r>
            <a:r>
              <a:rPr b="0" lang="sr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89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е тенденц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фармацеутици имају способност да се вежу за рецептор ћелије коју треба да униште (моноклонска антитела, лиганд рецептори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 руковања радиофармацеутици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е су мере заштите при употреби радиофармацеутика (потенцијално опасни и по особље!!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принципа: принцип оправданости (оправдано индикацијом), принцип оптимизације (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R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low as reasonable achievabl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принцип ограниче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аспону препоручених доз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RA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ринцип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RA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ципа на технике руковања радиофармацеутицима подразумева редуковање излагања радијационим доза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у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RA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ципа чине: време, растојање, зашти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RA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ринцип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рем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дужина излагања извору зрачења је директно пропорционална примљеној дози – што је краће време излагања то је мања примљена доза и обрну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стојање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адијациона доза је обрнуто сразмерна квадратном корену дужине растојања од извора зрачења. Повећање удаљености се постиже манипулативним техникама, употребом форцепса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фарма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ан сегмент фармације проучава радиофармацеути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фармацеутици су медицинска средства која у свом саставу садрже радиоизотопе који су безбедни за хуману примену у смислу дијагностике или терапи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изотоп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том са нестабилним 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г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 који може емитовати енергију или у виду новог атома са језгром или у виду атоимских чест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RA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ринцип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штит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радијациона доза се може смањити употребом штита између оператера и извора зрачења. За заштиту од гама зрачења се користе зидови направљени од тешког бетона, оловних циг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 радиофармацеу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ради радиофармацеутика обавезно је водити рачуна о основном принципу: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зард мора бити сведен на минимум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: максимална количина фотона  док излагање зрачењу мора бити сведено на оптимални минимум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фармацеутик садржи 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ач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лекул и радиоактивну честицу. Молекул 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ер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носи радиоактивност до циљног органа и треба да обезбеди да тај молекул и остане на циљном орг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 преузимања радиоактвне честице треба да буде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ан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о би се оштећење других органа свело на миниму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 је посебно значајно када је у питању терапијски радиофармацеут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дијагностичког радиофармацеутика преузимање и локализовање треба да буде у органу који се испиту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посебног значаја је и способност органа да преузме радиофармцеутик али и способност носача да преда радиофармацеут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је у питању припрема радиофармацеутика који у себи садржи честицу обележену радио изотопом, неопходно је да део радиофармацеутика буде замењен атомом или групом атома који су обележени радиоактивном честиц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ради оваквог препарата, неопходно је добро познавање хемијских и физичких карактеристика самог лека, али и добро проценити количини лека која се мења радиоактивним лиган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ећи корак је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премање облика који је одговарајући за клиничку примену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о је повећати величину препарата: или повећавањем укупног волумена лека или повећањем специфичне активности препара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з: 1. потенцијално нарушавање стабилности препарата и радиолиза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опходне су додатне мере заштите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 који се морају испунити при руковању са радиофармацеутиц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ња радиофармацеутицика подразумева и  потенцијални хазард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о је процес производње ових лекова ограничити на просторије које су посебно пројектоване и испуњавају све критеријуме безбедности предвиђене протоколом за рад са радиофармацеутиц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“ </a:t>
            </a:r>
            <a:r>
              <a:rPr b="1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isotope laboratories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 који се морају испунити при руковању са радиофармац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 не сме бити контаминиран током рада од стране опера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ор и околина не смеју бити контаминирани радиофарма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дене препоруке чине основу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P-a 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P – Good Radiopharmaceu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actic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фармацеутик се припрема у строго контролисаним условима, где је приступ ограничен и то искључиво обученом особљ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принципи за рад подразумевају поступање са радиофармацеутиком узимајући у обзир: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стојање, време и заштиту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 посебно едуковано особље има приступ радиофармацеутиц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о је именовати једну особу која руководи радиофармацеутицима и особљ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 са радиофармацеутицима подразумева постојање асептичних услова (стерилне капе, маске, рукавице, мантил, стерилне игле и бризгалиц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ка је да рад у оваквим лабораторијама буде стандардизован употребом процедура (</a:t>
            </a:r>
            <a:r>
              <a:rPr b="1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perating procedures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OPs)), које су увек доступне свим запосленим лицим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на радиофармака су у облику препарата намењених за интравенску приме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према оваквих облика се одвија у условима асепсе, у хоризонталним ламинарним коморама најчешћ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вим просторијама је строго забрањен унос хране, пића, прибора, козметичких и других препар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фармацеутиц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који емитују радиоактивно зрачења, намењени хуманој употреби за дијагностику или терапију боле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хватају разнолике представнике: неорганска једињења, органска једињења, пептиде, протеине, моноклонска антитела и њихове фрагменте, означене радионуклидом чије време полуживота варира од неколико минута до неколико д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 примене радиофарма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 запослени морају носити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е дозиметр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име се проверава свакодневно ниво зрачења и евентуална контаминациј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 припреме радиофармацеутика, неопходно је опрати руке, и заштитити сваки дефект коже (водоотпорним материјалим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е облачи заштитне капуте и мантиле као и рукавице при припреми и издавању радиофарма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авице које се користе без слоја талка (зачепљење филтера). Слој талка треба уклони алкохолом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завршеној припреми радиофармацеутика, неопходно је пажљиво одстранити рукавице (контаминиране материјалом), поново опрати руке и скинути заштитни мантил који се баца уколико је за једнократну употреб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и материјал који је био у контакту са радиофармацеутиком се третира као радиоактивни отп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а опр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на за заштиту особља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а опрема: опрема која повећава удаљеност од извор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цепси, хватањк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мена штитова за смањење контаминације, посебна врста посуђа за скупљање радиоактивног материјала у случају просипања, бризгалице, бочице које морају бити заштиће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завршеном послу, лабораторијску опрему треба очистити у складу са препорукама и чувати ван комо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 са радиофармацеутици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 опрема и радиофармацеутик треба да буду у комо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 опрема и посуде које садрже радиофармацеутик морају бити заштићене током руковањ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на процедура мора бити осмишљена да се степен контаминације сведе на миниму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 предвидети хазарде и поступке за уклањање контаминираних делова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ање са радиофармацеутиц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фармацеутици се чувају, процесирају, пакују и контролишу у простор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је намењен радиофармацеутици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ма која се користи за рад са радиофармацеутицима мора искључиво да се користи за ове препара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уп радиофармацеутицима и овим просторијама имају само овлашћене осо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тор за технецијум-99м и радиофармацеутици које садрже технецијум морају бити у посебној просториј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ање са радиофармаци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тор технецијума – 99м мора бити заштићен оловним плочама са пластичним омотач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 игле генератора се морају затварати оргиналним капица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је неопходно да радиофармак буде стерилан, израђује се у ламинарним коморама са посебним ХЕПА филтери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сфор -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 се за лечење коштаних метаст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ује се орално или интарвен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та – емитер, нема додатног гама зрач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ује се за кристале хидроксиапатита, али и за костану срж (није довољно селективан, оштећује костну срж што ограничаав примен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ски одговор -  70-8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 мање токсичности за исту индикацију: Стронцијум-89 и Самаријум-153ЕДТМ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д - 1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та еми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 довољно дуг полу живот од 8.1 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ективан је према ткиву штитасте жлезде (преко 9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кације: хипертироидизам и карцином штитасте жлез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бедност примене радиофармацеу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ат пријављивљња нежељених дејстава радиофармацеутика нижи у односу на друге лек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нежељене реакције радиофармацеутика се могу у клиничком смислу описати као: анафилактичке реакције, одложене алергијске реакције, пирогене реакције и васкуларне про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фармацеутиц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јација коју емитују ови лекови може да оштети ткива, неопходна је прецизна дистрибуција до циљних орг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: дијагностички и терапијски радиофармацеутици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фармацеутиц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нуклиди постижу стабилност радиоактивним распа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ад је познато око 3000, али се само 30 користи у биомедицинским наука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на су природног порекла, мада се могу добити у нуклеарним реакторима, линеарним акцелераторима и циклотрон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и зрачењ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ф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α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т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β-), (β+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ма зрачењ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γ)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стички радиофармаци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β+)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γ)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ски радиофармаци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α), (β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ма зрачење је електромагнетско зрачењ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љени у дијагностичке сврхе морају поседоват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г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"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 се детектују ван тела пацијен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ална вредност је 15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V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количина зрачења која се добија у нуклеарној медицини 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 зрачењу које се добија при рендгенолошким испитивањим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ф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α)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рачење се одликује емисјом алфа честица, честице се моноенергетске и имају врло мали домет; клиничка примена ограничена и  у фази испитивањ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т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β-)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пад очекујемо код честица богатих неутонима, користи се у терапијске сврхе, с обзиром да ове честице имају различите енергетске нив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т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β+)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итронски распад се користи у дијагностичке сврхе или за означавање радиофарм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е распадом нуклеида богатих позитрони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 распада позитрони се комбинују са електронима, анихилирају се при ч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стају два протона од 511ke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09:40:27Z</dcterms:created>
  <dc:creator>Bill Gates</dc:creator>
  <dc:description/>
  <dc:language>en-US</dc:language>
  <cp:lastModifiedBy>Marina Kostic</cp:lastModifiedBy>
  <dcterms:modified xsi:type="dcterms:W3CDTF">2023-09-11T10:12:38Z</dcterms:modified>
  <cp:revision>72</cp:revision>
  <dc:subject/>
  <dc:title>Улога фармацеута у припреми и примени цитостатске терапије. Набавка, транспорт, припрема и примена цитостатика. Поступак при просипању цитостатика на радну површину или под. Мере индивидуалне заштите.     Безбедно отклањање цитостатских препарата по истеку рока. Поступак са испражњеним бочицама и бризгалицама из којих је примењен цитостатик</dc:title>
</cp:coreProperties>
</file>